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F73-48D7-49F6-AE5A-8E9F7CC5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B21-878A-4C71-91AF-D0D663D1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4B3-272F-43A7-8B94-19D086D3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BDF1-FA12-4D25-BD16-FAEB00DD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6D0-B114-4375-BACF-151C757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3CD-48D5-4DA9-94B4-B643A128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8AD-442E-47B2-A3E8-554247B9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6B6-F8C1-4D73-9810-5FA0D07A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52C-6D37-4497-832C-CB5C8925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CCC-BBF0-4F61-AA6B-D64400FD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23B-0F5F-401D-9B61-32B1A3D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9E3-7130-44AD-BB7A-4C7ABF70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456-2743-4F8E-99CC-77305E61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box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tell how much time has passed in a word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!  Use SEE box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962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1148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8600" y="342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410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91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4038480" cy="14781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7724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49568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a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lapsed time (time gone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1:52Z</dcterms:created>
  <dc:creator> </dc:creator>
  <dc:description/>
  <dc:language>en-US</dc:language>
  <cp:lastModifiedBy> </cp:lastModifiedBy>
  <dcterms:modified xsi:type="dcterms:W3CDTF">2008-04-25T18:59:54Z</dcterms:modified>
  <cp:revision>4</cp:revision>
  <dc:subject/>
  <dc:title>Measurement</dc:title>
</cp:coreProperties>
</file>